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38B-F280-47F6-8FE9-1864FA59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A04-035B-46EF-9487-B9F91C8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8FD-80EA-4980-B0BE-9F165BC8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ED7-38A6-4579-B41D-3BDE5A40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F87-778D-4F81-AF30-1EC3CC6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D4-4A99-4E20-8769-D0AE063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78D-4007-44E3-B0E9-94300C3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33A-C890-4D45-945E-8096E85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448-3873-4B29-AE33-FB7C9C8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760-F133-4273-94A9-48A0EA4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E8A-9DC8-48B0-AFEB-3AC1700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474-B8A3-4608-A013-D9A2012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66E-BFF6-4885-A002-3315B5596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overn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Behind that Curtai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3623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behind th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eally Gov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Corp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533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Helmeted UN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5288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ilateral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65760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igiou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7057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er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222920" y="51814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ory Towered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791320" y="4724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219320" y="3581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B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019920" y="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95280" y="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eau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477120" y="5791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604440" y="2362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, Legitimacy and Auth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-The ability to get someone to d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- Principals secretary screens telephone calls, she possesses enormou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- the rightful use of that Power, formal v. inform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in School- Administrators are perceived to have certain authority that teachers do not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timacy- How did that person gain that rightful u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in Iraq. We believe that legitimacy is conferred b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- Athenian Pur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-Citizen Power- Empowerment of the Masses- EG California Recall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- Inconsistencies- EG. Vote for low taxes and Vote for better health care an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Democracy- ie. Vote for your Representatives (Republ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- Representatives can study issues and develop an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- Become attenuated from the People- House of Representatives today- 1 per 700,000 pop. California, 2 senators for a 40 Milli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ve Democracy and who really gov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te Theory- Small cadre of Elite pull the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xist Theory- Ownership determines power- Capitalists run America- Exxon, Enron, Pharmaceutical Industry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 company drew up Medicare Prescription care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panies working with the Vice-President secretly developed the 2002 Energy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Wright Mills- Power Elite- Mixture of Key Advisers, Corporate leaders and Military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emian Club- All male Republican Club, meets in Bohemian Gro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McNamara, Harvard MBA grad, was the CEO for Ford before becoming Secretary of Defense for JF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lateral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n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ull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tes are not uniform- For example, 1) Jon Corzine, Democratic Governor from NJ spent $70 million on his campaign, he has little common ground w/multi-millionaire, Tom Golisano a Republican running for Gov. in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ic Theory- Max Weber (German sociologists at the turn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)- SEE Homeland Security Flowchar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Government’s role has expanded its’ size required expertise. The bureaucratic experts are the ones that really run the govt..  Decision makers rely upon government institutions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ovt. Climatologists determine that Global Warming is a problem, this leads to policies consistent with the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4343400"/>
            <a:ext cx="8305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in existence Bureaucracies are difficult to kill- Take on a life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- President Reagan ran for office w/the promise to kill the Department of Education, by the end of his Presidency it had substantially grown 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ralist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groups w/shifting alliances, no single group has “the power”, depends on needs, size etc…of the group demanding cha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Drug Prescription plan favored by Senior Citizens and Pharmaceutical companies passes, alienates, fiscally conservative Republicans who help elect th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 Tariffs are passed, please Steel Companies, swing state voters in W.Va., Pa. and Ohio, alienate, Auto Companies and Democrat and Republican Free Trade advo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o Wine gets a bill passed that only benefits them, minimal impact on 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pl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ism that has gone so far as to cause gridlock, single issue politics, little common ground on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Govern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/Paradigms, designed to provide “real world”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in the Models/Paradigms-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 are based upon 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Theory- high predictive value and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es the cause and effect (one independent and one dependent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Theories can not be tested in a “vacuu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“assumption” that all other variables held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ralism/Hyperpluralism are probably the most accurate Governmen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no predictiv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groups at different times result in differ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45:51Z</dcterms:created>
  <dc:creator>Darien Public Schools</dc:creator>
  <dc:description/>
  <dc:language>en-US</dc:language>
  <cp:lastModifiedBy>Administrator</cp:lastModifiedBy>
  <dcterms:modified xsi:type="dcterms:W3CDTF">2011-01-31T12:04:35Z</dcterms:modified>
  <cp:revision>17</cp:revision>
  <dc:subject/>
  <dc:title>Who Is Behind that Curtain???</dc:title>
</cp:coreProperties>
</file>